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18F3-6B29-4BF3-B1D6-A9D077B12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2A8D-EF7A-419E-81E3-6878FCC57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ECAF-44DD-4D41-82BC-0DAD1DC78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1AC3-F11E-4AC3-9785-818FA5F3E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14BB-5229-4AA9-9FD6-E2C4D1250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BAF8-FFDF-46F0-A0E1-50B874076E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1636-11E5-49EC-88A8-78B78B5F1D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AB58-D602-43E1-BA1F-FAB5ED0F56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0B82-0546-47DD-9EE9-245E7D8A6A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50CA-D362-4DA4-A637-112437E0BC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7A56-FB05-4717-A610-310FB7DE4C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4756-ACA6-444C-B434-E4EB3D696D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5A83-B373-4B89-8409-CF5BC1B364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99D3-B833-4601-8887-4C4DF63421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EB3D-98B1-4324-AA83-305DDDBBE8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5E10-4819-4AA7-880F-6891DE673A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F0F1-6C8A-4B25-8B62-7B0D2B8F86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877B-8DA8-4A58-9C06-FD4F5EDF48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0B4-8C3D-469A-AE23-DA85B3F689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1B5-7336-4E7F-A34E-520309EE63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975-CB76-4C64-ACEB-B6B839259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9397-C544-4DCF-8714-D585A54346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110-15F4-465C-B283-B66D817952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1E2-21E2-47E3-9D3E-23310176F8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101-8F60-4102-BE04-155B3B6EB9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894-5157-40FF-8761-4342B5C610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FB0-0E8C-4A3B-8BD8-63B2039A83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157-46BF-4494-B12E-AC099CAEE6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CE3-8498-460F-9C7B-58515C53A0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C8D-25FC-4604-9357-DD0E272210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B48-815F-4175-ABD4-C8972AAE43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AEA66-FBB9-4DB8-9200-145115712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33DF-BEFE-4781-A999-DCCE7D7889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72A83-59B6-4EFD-89A4-2921F07F77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9D574-60F7-4533-9A64-0F086A5E51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610C2-0ED3-4870-97B8-66AC5F7B62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0BF0E-47D7-4BFC-A75C-1648A8B608C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99BF5-982E-4700-ADD0-BD84044644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39F5-50FC-4B20-A31A-2FDE30B66F4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10271-38BE-40AC-A278-C45CC11B856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0D6E1-C9D3-4AA8-BC20-2B84DE588E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1CA7B-489E-40F0-A6FB-22FBDA7E9C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F0C29-398D-4752-A3D9-7C0DC2E71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C10F-4F66-4FFE-836C-B6B5B32D15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2B757-E5F5-41F8-9B18-73C4CB9CF8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B3A30-427B-4FF8-A18B-A22F4EFCA8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39D4F-EEDA-4D5A-BD6E-D4D1E18AB85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E8CE1-099D-4162-B36B-DDB8CB6AA7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109C6-32D9-4776-B0FC-95B888D0DE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8486C-BF04-4E58-AE4D-4148F9A702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326FE-C2E0-4DBF-9BD9-D44CA0039C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6B060-CCDC-4D41-85D6-F3FAE54F0A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31DB8-3497-4F1D-9599-2A8119CB4A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3ABA1-2555-4DEB-B17B-057ABF80D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C5FB-1491-4527-AFA2-6484644D5F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5FC38-5A71-41C3-9FB0-4CA0D607B8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40867-49B0-4508-BAA6-A59FE290373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B11DB-49B3-48FE-9A15-1F31BFD59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0F93-86A1-47F6-8C36-52F5B23BE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40C6-5C98-4A2B-B981-13DBD154E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D3A3-5CC3-431E-A7AF-AABFFC23FB2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4D09-0718-46DB-B55E-35A9E7A5D3F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8D32-1B8E-4D01-AE0C-30B6EC9A428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2491-4A4D-43E6-9D2B-D7504419755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023C-40DA-41BF-B98C-80A606C0213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524340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14400" y="212760"/>
            <a:ext cx="8290080" cy="804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ultiplication formulas use the * (asterisk) symbol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ivision formulas use the / (forward slash) symbol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esults are formatted with decimals if the result is not a whole number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hen multiplying or dividing by a percent, you can key the actual percent (75%) or its decimal equivalent (.75)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585324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=B8*C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5853240" y="296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=B9/C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5943600" y="5486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=B3*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=B3*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927000" y="171360"/>
            <a:ext cx="8375760" cy="846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cent Style         multiplies a value by 100 to convert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a Style         inserts commas as thousands’ separators and sets 2 decimal posi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ncrease Decimal button          adds a decimal position with each clic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ecrease Decimal button         removes a decimal position with each clic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2"/>
          <a:stretch/>
        </p:blipFill>
        <p:spPr>
          <a:xfrm>
            <a:off x="3446640" y="1612800"/>
            <a:ext cx="414000" cy="41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32" name="Picture 5" descr=""/>
          <p:cNvPicPr/>
          <p:nvPr/>
        </p:nvPicPr>
        <p:blipFill>
          <a:blip r:embed="rId3"/>
          <a:stretch/>
        </p:blipFill>
        <p:spPr>
          <a:xfrm>
            <a:off x="3471840" y="2540160"/>
            <a:ext cx="414360" cy="41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33" name="Picture 6" descr=""/>
          <p:cNvPicPr/>
          <p:nvPr/>
        </p:nvPicPr>
        <p:blipFill>
          <a:blip r:embed="rId4"/>
          <a:stretch/>
        </p:blipFill>
        <p:spPr>
          <a:xfrm>
            <a:off x="5892840" y="4935600"/>
            <a:ext cx="384120" cy="38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34" name="Picture 7" descr=""/>
          <p:cNvPicPr/>
          <p:nvPr/>
        </p:nvPicPr>
        <p:blipFill>
          <a:blip r:embed="rId5"/>
          <a:stretch/>
        </p:blipFill>
        <p:spPr>
          <a:xfrm>
            <a:off x="5818320" y="3962520"/>
            <a:ext cx="380880" cy="38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35" name="TextBox 8"/>
          <p:cNvSpPr/>
          <p:nvPr/>
        </p:nvSpPr>
        <p:spPr>
          <a:xfrm>
            <a:off x="6578640" y="209088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.33  =  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6248520" y="342900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12345  =  12,34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3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290920" cy="1511280"/>
          </a:xfrm>
          <a:prstGeom prst="rect">
            <a:avLst/>
          </a:prstGeom>
          <a:ln w="0">
            <a:noFill/>
          </a:ln>
        </p:spPr>
      </p:pic>
      <p:sp>
        <p:nvSpPr>
          <p:cNvPr id="33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4778-6429-40A0-B197-4ED227D7138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4114800" y="2168640"/>
            <a:ext cx="468144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TextBox 3"/>
          <p:cNvSpPr/>
          <p:nvPr/>
        </p:nvSpPr>
        <p:spPr>
          <a:xfrm>
            <a:off x="1490760" y="1303200"/>
            <a:ext cx="67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highlight cells rule uses comparison or relational operators to apply formatting to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914400" y="373392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hose cells with values less than zero (negative values) will be shown with light red fi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45" name="Title 5" descr=""/>
          <p:cNvPicPr/>
          <p:nvPr/>
        </p:nvPicPr>
        <p:blipFill>
          <a:blip r:embed="rId2"/>
          <a:stretch/>
        </p:blipFill>
        <p:spPr>
          <a:xfrm>
            <a:off x="3024360" y="2724120"/>
            <a:ext cx="5821200" cy="208584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B40-C507-402A-8238-D78E0895876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345520" cy="11588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990360" y="19047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Order of precedenc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termines what part of a formula is calculated firs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se math rules are also known as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order of operati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ath hierarch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rentheses can be used to set order of precede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830240" y="1828800"/>
            <a:ext cx="5942160" cy="39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2500200" y="1447920"/>
            <a:ext cx="3996000" cy="47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4" name="TextBox 3"/>
          <p:cNvSpPr/>
          <p:nvPr/>
        </p:nvSpPr>
        <p:spPr>
          <a:xfrm>
            <a:off x="457200" y="1371600"/>
            <a:ext cx="213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utoCalculate enables you to quickly see formula results in the status bar for selected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"/>
          <p:cNvGrpSpPr/>
          <p:nvPr/>
        </p:nvGrpSpPr>
        <p:grpSpPr>
          <a:xfrm>
            <a:off x="2590920" y="1523880"/>
            <a:ext cx="6335640" cy="4572000"/>
            <a:chOff x="2590920" y="1523880"/>
            <a:chExt cx="6335640" cy="4572000"/>
          </a:xfrm>
        </p:grpSpPr>
        <p:pic>
          <p:nvPicPr>
            <p:cNvPr id="356" name="Picture 5" descr=""/>
            <p:cNvPicPr/>
            <p:nvPr/>
          </p:nvPicPr>
          <p:blipFill>
            <a:blip r:embed="rId2"/>
            <a:stretch/>
          </p:blipFill>
          <p:spPr>
            <a:xfrm>
              <a:off x="2590920" y="1523880"/>
              <a:ext cx="6335640" cy="4530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7" name="Rounded Rectangle 7"/>
            <p:cNvSpPr/>
            <p:nvPr/>
          </p:nvSpPr>
          <p:spPr>
            <a:xfrm>
              <a:off x="6095880" y="4495680"/>
              <a:ext cx="23619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6171840" y="5867280"/>
              <a:ext cx="213336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"/>
            <p:cNvSpPr/>
            <p:nvPr/>
          </p:nvSpPr>
          <p:spPr>
            <a:xfrm>
              <a:off x="4343400" y="2742840"/>
              <a:ext cx="182844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61" name="Title 5" descr=""/>
          <p:cNvPicPr/>
          <p:nvPr/>
        </p:nvPicPr>
        <p:blipFill>
          <a:blip r:embed="rId2"/>
          <a:stretch/>
        </p:blipFill>
        <p:spPr>
          <a:xfrm>
            <a:off x="3024360" y="2724120"/>
            <a:ext cx="5705280" cy="208584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7355-5588-48B9-B2C7-42EAA3E450C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75C-BBBF-4044-85F0-56C3D7983EE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927000" y="225360"/>
            <a:ext cx="8412120" cy="781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a relative cell reference, Excel adjusts a copied formula based on the row or column where the copy is located. This is the default reference type and behavi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n absolute reference, nothing is changed when a formula is copie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 mixed reference, part of the cell reference is adjusted when a formula is copi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6014880" cy="29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Rectangle 3"/>
          <p:cNvSpPr/>
          <p:nvPr/>
        </p:nvSpPr>
        <p:spPr>
          <a:xfrm>
            <a:off x="1676520" y="4572000"/>
            <a:ext cx="6705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8680" indent="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dollar sign in a cell reference is a reserved symbol. It does not represent cur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80" indent="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3-D reference is a cell address on a different worksheet in the work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80" indent="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990720" y="1371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plit command displays different worksheets or different parts of the same worksheet on screen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7597800" cy="360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7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E564-5DB8-421B-AE24-6ABB7497CD3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1219320" y="16765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ny commands to prepare a worksheet for printed output are available on the Page Layout command t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8345520" cy="119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"/>
          <p:cNvSpPr/>
          <p:nvPr/>
        </p:nvSpPr>
        <p:spPr>
          <a:xfrm>
            <a:off x="762120" y="2057400"/>
            <a:ext cx="8001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hange page marg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t the page ori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hoose a paper and page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t a print area and/or print tit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cale the worksheet to fit the page or print larger than the p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rint gridlines and column and row hea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fine page brea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dd a background color or im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762120" y="13809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rom the Page Layout command tab, you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"/>
          <p:cNvSpPr/>
          <p:nvPr/>
        </p:nvSpPr>
        <p:spPr>
          <a:xfrm>
            <a:off x="914400" y="1295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ge orientation for a worksheet can be portrait or land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4314960" y="2184480"/>
            <a:ext cx="4752720" cy="3732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511200" y="1752480"/>
            <a:ext cx="3728880" cy="472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2"/>
          <p:cNvSpPr/>
          <p:nvPr/>
        </p:nvSpPr>
        <p:spPr>
          <a:xfrm>
            <a:off x="533520" y="14479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caling sets the printed size using a percentage. It can be larger or smaller than 100%. You can also choose the number of pages to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1724040" cy="10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Picture 3" descr=""/>
          <p:cNvPicPr/>
          <p:nvPr/>
        </p:nvPicPr>
        <p:blipFill>
          <a:blip r:embed="rId3"/>
          <a:stretch/>
        </p:blipFill>
        <p:spPr>
          <a:xfrm>
            <a:off x="5334120" y="3276720"/>
            <a:ext cx="22590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9874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37160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 image can be used a background. A background appears on screen or in a Web page. It does not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" descr=""/>
          <p:cNvPicPr/>
          <p:nvPr/>
        </p:nvPicPr>
        <p:blipFill>
          <a:blip r:embed="rId2"/>
          <a:stretch/>
        </p:blipFill>
        <p:spPr>
          <a:xfrm>
            <a:off x="1806480" y="2079720"/>
            <a:ext cx="604224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9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765760" cy="151128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758B-C944-4A4E-BFF0-738C2ED5EA0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960880" cy="15112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9D01-15C2-4C2A-9CE1-E1BF59E09C1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158840" y="60480"/>
            <a:ext cx="7991640" cy="9396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838080" y="1828800"/>
            <a:ext cx="358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orksheets can be copied for entering new or edited data. You can also move a worksheet from the Move or Copy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935520" cy="375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1158840" y="-6480"/>
            <a:ext cx="799164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"/>
          <p:cNvSpPr/>
          <p:nvPr/>
        </p:nvSpPr>
        <p:spPr>
          <a:xfrm>
            <a:off x="1600200" y="1523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worksheets are grouped, you can apply many commands to all sheets in the group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" descr=""/>
          <p:cNvPicPr/>
          <p:nvPr/>
        </p:nvPicPr>
        <p:blipFill>
          <a:blip r:embed="rId2"/>
          <a:stretch/>
        </p:blipFill>
        <p:spPr>
          <a:xfrm>
            <a:off x="1028880" y="2971800"/>
            <a:ext cx="75816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0" name="TextBox 4"/>
          <p:cNvSpPr/>
          <p:nvPr/>
        </p:nvSpPr>
        <p:spPr>
          <a:xfrm>
            <a:off x="2057400" y="48769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add a header or a footer to grouped sheets using the Page Setup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formulas use common arithmetic operators to perform many types of calcul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are automatically checked for certain types of errors, such as a reference to an empty cell or inconsistent formulas in a colum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though Excel can tag certain types of formula errors, it does not correct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ercent style converts a decimal value to its percentage equivalent and displays a percent symbo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Comma style displays values with thousands’ separators (commas) and two decimal plac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command buttons in the Number group to increase or decrease decimal positions in a value, to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315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highlight cells rule is conditional formatting that applies formatting based on a rule set using a relational opera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Paste Special to copy only formats from one cell to anoth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Go To Special to select cells that meet a particular criteria such as all cells with conditional forma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calculating its formulas, Excel follows mathematical order of precede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define the order of precedence for a formula by keying parentheses around calculations that should be performed firs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toCalculate is an Excel feature in the status bar that displays sums, averages, and other totals for selected cell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addresses in a formula can be specified as relative, absolute, or mixed. These references determine what happens when the formula is copi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3-D reference is a cell address that refers to a cell on a different worksheet in the sam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can be displayed in full for documentation or help in locating problem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rbel"/>
              </a:rPr>
              <a:t>Portrait orientation prints a vertical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ndscape orientation prints a horizontal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cale to Fit group on the Page Layout command tab enables you to print the worksheet in a reduced or enlarged siz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ridlines and row and column headings can be set to display and to pri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295280" y="18288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books or individual sheets can be saved as Web pages for viewing in most brows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add an image as a sheet background for display on a Web page. These backgrounds do not pri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 columns and/or rows can be hidden from view and unhidden when necessa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294920" y="1904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entire worksheet with data and formatting can be copied using the Move and Copy dialog box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commands can be applied to several worksheets at once by grouping the 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d a header or a footer to grouped sheets using the Page Setup dialog box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981000" y="212760"/>
            <a:ext cx="8248680" cy="8049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29840" y="1905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ddition formulas total or sum cell values using the + operator. You can key cell addresses or you can point and click each o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4419720" y="1352520"/>
            <a:ext cx="4390920" cy="506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1060560" y="212760"/>
            <a:ext cx="8242200" cy="8049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traction formulas compute the difference between cells using the – operat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use the – sign in the ten-key pad or in the row of numbers at the top of the keyboar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Picture 1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530712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9" name="Oval 2"/>
          <p:cNvSpPr/>
          <p:nvPr/>
        </p:nvSpPr>
        <p:spPr>
          <a:xfrm>
            <a:off x="5638680" y="3429000"/>
            <a:ext cx="6858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914040" y="22856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ells containing formulas that result in an erro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consistent calculated column formula in an Excel tabl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ells containing years represented as two digit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umbers formatted as text or preceded by an apostroph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rmulas inconsistent with other formulas in the regio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rmulas which omit cells in a regio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Unlocked cells containing formul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rmulas referring to empty cell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valid data entered in an Excel tabl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533520" y="1295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following types of errors can be tagged. Set your choices from the Formulas pane in the Excel Options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6553080" y="5029200"/>
            <a:ext cx="2362320" cy="538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default setting, this rule is not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Straight Arrow Connector 8"/>
          <p:cNvCxnSpPr/>
          <p:nvPr/>
        </p:nvCxnSpPr>
        <p:spPr>
          <a:xfrm flipH="1">
            <a:off x="5562000" y="5297040"/>
            <a:ext cx="9910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2"/>
          <a:srcRect l="0" t="68201" r="0" b="0"/>
          <a:stretch/>
        </p:blipFill>
        <p:spPr>
          <a:xfrm>
            <a:off x="1600200" y="2895480"/>
            <a:ext cx="628344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7" name="TextBox 4"/>
          <p:cNvSpPr/>
          <p:nvPr/>
        </p:nvSpPr>
        <p:spPr>
          <a:xfrm>
            <a:off x="1752480" y="16765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Error Checking Options button provides options for dealing with a recognized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789120" y="1447920"/>
            <a:ext cx="82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display formulas on screen as a way to locate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892080" y="2120760"/>
            <a:ext cx="7871040" cy="376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22" name="Title 5" descr=""/>
          <p:cNvPicPr/>
          <p:nvPr/>
        </p:nvPicPr>
        <p:blipFill>
          <a:blip r:embed="rId2"/>
          <a:stretch/>
        </p:blipFill>
        <p:spPr>
          <a:xfrm>
            <a:off x="3024360" y="2676600"/>
            <a:ext cx="5668920" cy="2084400"/>
          </a:xfrm>
          <a:prstGeom prst="rect">
            <a:avLst/>
          </a:prstGeom>
          <a:ln w="0">
            <a:noFill/>
          </a:ln>
        </p:spPr>
      </p:pic>
      <p:sp>
        <p:nvSpPr>
          <p:cNvPr id="32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367B-3E73-4E3A-832B-65E203F76A6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7:15Z</dcterms:modified>
  <cp:revision>77</cp:revision>
  <dc:subject/>
  <dc:title>Microsoft office</dc:title>
</cp:coreProperties>
</file>